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084-D69A-4700-A338-A73F8691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95B-1BA5-4E7A-B94A-2F24645C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DFE-57DF-4B9F-9818-4FBF921C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EE6-14BE-4CBA-A066-8CFC5D07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AF6D-33AB-410C-9382-F729759C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D15C-2911-43F9-8B96-5A86ABD8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32CA-FDAB-48DC-A9A7-9219104F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BC99-051B-4B7D-8A0A-BD9A8346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1C46-B67D-4349-8B85-15CEBA3C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FC87-8A3B-4546-83E4-4562DA9C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1AAF-5983-42BC-9D36-52B0555C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4C7-45D7-4E9A-A9DD-2846398A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FB3F-2186-4DF7-92B3-E06B061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7B34-1D32-4E31-ADD0-524619C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1C5A-A537-4BEC-B013-5BC9631F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2DFE-8A7A-4BFB-B7A2-7A34817D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AEA7-8F55-4288-91BD-E0433A13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783-0AC9-4C1E-8D04-FF269394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667-DA38-480A-B2CE-698543D5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F4D-52FF-4501-A517-A777561D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C003-4CD0-49BA-901B-25FED152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8AE-E531-47F9-BA86-A29A0216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F95-64E4-4D13-A0E5-7154D894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E95-6533-4E67-B3E7-3175CD6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8995-97C6-4091-B521-C87B67903B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0763-05D1-4290-86C5-AB8E589EEA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447920"/>
            <a:ext cx="7772400" cy="26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atter are those properties that can be observed or measured without changing the composition of the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of a substance to combine with or change into one or more other substances is called a </a:t>
            </a: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chemic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2670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photograph to the right depict a physical property of water or a chemical property of wa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2590920" cy="231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585324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737ff"/>
                </a:solidFill>
                <a:uFillTx/>
                <a:latin typeface="Arial"/>
              </a:rPr>
              <a:t>Homework (Due 9/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Lab Safety Contract signed by parent or guar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28600" y="1447920"/>
            <a:ext cx="8610480" cy="3504600"/>
            <a:chOff x="228600" y="1447920"/>
            <a:chExt cx="8610480" cy="3504600"/>
          </a:xfrm>
        </p:grpSpPr>
        <p:sp>
          <p:nvSpPr>
            <p:cNvPr id="190" name=""/>
            <p:cNvSpPr/>
            <p:nvPr/>
          </p:nvSpPr>
          <p:spPr>
            <a:xfrm>
              <a:off x="3809880" y="144792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548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3880" y="274320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274320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x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2920" y="4038480"/>
              <a:ext cx="167616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148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720" y="3657600"/>
              <a:ext cx="1371600" cy="38052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864" y="0"/>
                  </a:moveTo>
                  <a:lnTo>
                    <a:pt x="86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3886200"/>
              <a:ext cx="1371600" cy="151920"/>
            </a:xfrm>
            <a:custGeom>
              <a:avLst/>
              <a:gdLst/>
              <a:ahLst/>
              <a:rect l="l" t="t" r="r" b="b"/>
              <a:pathLst>
                <a:path w="864" h="96">
                  <a:moveTo>
                    <a:pt x="0" y="0"/>
                  </a:moveTo>
                  <a:lnTo>
                    <a:pt x="864" y="0"/>
                  </a:lnTo>
                  <a:lnTo>
                    <a:pt x="86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3657600"/>
              <a:ext cx="990720" cy="38052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624" y="0"/>
                  </a:moveTo>
                  <a:lnTo>
                    <a:pt x="62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3886200"/>
              <a:ext cx="1066680" cy="15192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0"/>
                  </a:moveTo>
                  <a:lnTo>
                    <a:pt x="672" y="0"/>
                  </a:lnTo>
                  <a:lnTo>
                    <a:pt x="67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2320" y="2361960"/>
              <a:ext cx="2286000" cy="38088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1440" y="0"/>
                  </a:moveTo>
                  <a:lnTo>
                    <a:pt x="1440" y="96"/>
                  </a:lnTo>
                  <a:lnTo>
                    <a:pt x="0" y="96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2514600"/>
              <a:ext cx="2286000" cy="228240"/>
            </a:xfrm>
            <a:custGeom>
              <a:avLst/>
              <a:gdLst/>
              <a:ahLst/>
              <a:rect l="l" t="t" r="r" b="b"/>
              <a:pathLst>
                <a:path w="1440" h="144">
                  <a:moveTo>
                    <a:pt x="0" y="0"/>
                  </a:moveTo>
                  <a:lnTo>
                    <a:pt x="1440" y="0"/>
                  </a:lnTo>
                  <a:lnTo>
                    <a:pt x="144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00040" y="2895480"/>
            <a:ext cx="2895480" cy="368280"/>
            <a:chOff x="3200040" y="2895480"/>
            <a:chExt cx="2895480" cy="368280"/>
          </a:xfrm>
        </p:grpSpPr>
        <p:sp>
          <p:nvSpPr>
            <p:cNvPr id="204" name=""/>
            <p:cNvSpPr/>
            <p:nvPr/>
          </p:nvSpPr>
          <p:spPr>
            <a:xfrm flipH="1">
              <a:off x="3200040" y="320004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33920" y="2895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181480" y="4343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4343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502920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composition throughout. AKA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502920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well blended.  Individual components remain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paration Techniq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ff"/>
                </a:solidFill>
                <a:latin typeface="Arial"/>
              </a:rPr>
              <a:t>Chromatograp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eparates the components of mixtures (mobile phase) on the basis of the tendency of each to travel or be drawn across the surface of another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8862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paration Techniq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3352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ff"/>
                </a:solidFill>
                <a:latin typeface="Arial"/>
              </a:rPr>
              <a:t>Distil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eparates homogeneous mixtures based on differences in boiling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paration Techniq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66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ion:    Uses a porous barrier to separate a solid from a liquid in a heterogeneous mix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66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86200" y="3352680"/>
            <a:ext cx="3187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paration Techniq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lization: A technique that results in the formation of pure solid particles of a substance from a solution containing the dissolved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733920" cy="3147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28600" y="1447920"/>
            <a:ext cx="8610480" cy="3504600"/>
            <a:chOff x="228600" y="1447920"/>
            <a:chExt cx="8610480" cy="3504600"/>
          </a:xfrm>
        </p:grpSpPr>
        <p:sp>
          <p:nvSpPr>
            <p:cNvPr id="225" name=""/>
            <p:cNvSpPr/>
            <p:nvPr/>
          </p:nvSpPr>
          <p:spPr>
            <a:xfrm>
              <a:off x="3809880" y="144792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548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860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3880" y="274320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274320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x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62920" y="4038480"/>
              <a:ext cx="167616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90720" y="3657600"/>
              <a:ext cx="1371600" cy="38052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864" y="0"/>
                  </a:moveTo>
                  <a:lnTo>
                    <a:pt x="86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62320" y="3886200"/>
              <a:ext cx="1371600" cy="151920"/>
            </a:xfrm>
            <a:custGeom>
              <a:avLst/>
              <a:gdLst/>
              <a:ahLst/>
              <a:rect l="l" t="t" r="r" b="b"/>
              <a:pathLst>
                <a:path w="864" h="96">
                  <a:moveTo>
                    <a:pt x="0" y="0"/>
                  </a:moveTo>
                  <a:lnTo>
                    <a:pt x="864" y="0"/>
                  </a:lnTo>
                  <a:lnTo>
                    <a:pt x="86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3657600"/>
              <a:ext cx="990720" cy="38052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624" y="0"/>
                  </a:moveTo>
                  <a:lnTo>
                    <a:pt x="62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34320" y="3886200"/>
              <a:ext cx="1066680" cy="15192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0"/>
                  </a:moveTo>
                  <a:lnTo>
                    <a:pt x="672" y="0"/>
                  </a:lnTo>
                  <a:lnTo>
                    <a:pt x="67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62320" y="2361960"/>
              <a:ext cx="2286000" cy="38088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1440" y="0"/>
                  </a:moveTo>
                  <a:lnTo>
                    <a:pt x="1440" y="96"/>
                  </a:lnTo>
                  <a:lnTo>
                    <a:pt x="0" y="96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48320" y="2514600"/>
              <a:ext cx="2286000" cy="228240"/>
            </a:xfrm>
            <a:custGeom>
              <a:avLst/>
              <a:gdLst/>
              <a:ahLst/>
              <a:rect l="l" t="t" r="r" b="b"/>
              <a:pathLst>
                <a:path w="1440" h="144">
                  <a:moveTo>
                    <a:pt x="0" y="0"/>
                  </a:moveTo>
                  <a:lnTo>
                    <a:pt x="1440" y="0"/>
                  </a:lnTo>
                  <a:lnTo>
                    <a:pt x="144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200040" y="2895480"/>
            <a:ext cx="2895480" cy="368280"/>
            <a:chOff x="3200040" y="2895480"/>
            <a:chExt cx="2895480" cy="368280"/>
          </a:xfrm>
        </p:grpSpPr>
        <p:sp>
          <p:nvSpPr>
            <p:cNvPr id="239" name=""/>
            <p:cNvSpPr/>
            <p:nvPr/>
          </p:nvSpPr>
          <p:spPr>
            <a:xfrm flipH="1">
              <a:off x="3200040" y="320004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3920" y="2895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181480" y="4343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2920" y="4343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emical combination of two or mo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ffer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4760" y="4114800"/>
            <a:ext cx="1067040" cy="609480"/>
            <a:chOff x="1904760" y="4114800"/>
            <a:chExt cx="1067040" cy="609480"/>
          </a:xfrm>
        </p:grpSpPr>
        <p:sp>
          <p:nvSpPr>
            <p:cNvPr id="245" name=""/>
            <p:cNvSpPr/>
            <p:nvPr/>
          </p:nvSpPr>
          <p:spPr>
            <a:xfrm flipH="1">
              <a:off x="1904760" y="47242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05120" y="411480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mical 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8600" y="510552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ure substance that can not be broken down in to simpler substances by physical or chemical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idence of a Chemical Re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 in 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other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s.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of a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733920"/>
            <a:ext cx="24382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ption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3733920"/>
            <a:ext cx="24382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5638680"/>
            <a:ext cx="48765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liquids are combined and a solid is 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4191120" y="2895480"/>
            <a:ext cx="2514600" cy="1219320"/>
            <a:chOff x="4191120" y="2895480"/>
            <a:chExt cx="2514600" cy="1219320"/>
          </a:xfrm>
        </p:grpSpPr>
        <p:sp>
          <p:nvSpPr>
            <p:cNvPr id="254" name=""/>
            <p:cNvSpPr/>
            <p:nvPr/>
          </p:nvSpPr>
          <p:spPr>
            <a:xfrm>
              <a:off x="4191120" y="3657600"/>
              <a:ext cx="380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572000" y="3200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29200" y="28954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scri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52280" y="2819520"/>
            <a:ext cx="2133720" cy="1295280"/>
            <a:chOff x="152280" y="2819520"/>
            <a:chExt cx="2133720" cy="1295280"/>
          </a:xfrm>
        </p:grpSpPr>
        <p:sp>
          <p:nvSpPr>
            <p:cNvPr id="258" name=""/>
            <p:cNvSpPr/>
            <p:nvPr/>
          </p:nvSpPr>
          <p:spPr>
            <a:xfrm>
              <a:off x="1752480" y="3429000"/>
              <a:ext cx="5335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5280" y="312408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2280" y="2819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effic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 is neither created or destroyed in a chemical reaction, it is conserv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828800" y="3429000"/>
                <a:ext cx="5029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2209680" y="4495680"/>
            <a:ext cx="2819520" cy="459720"/>
            <a:chOff x="2209680" y="4495680"/>
            <a:chExt cx="2819520" cy="459720"/>
          </a:xfrm>
        </p:grpSpPr>
        <p:sp>
          <p:nvSpPr>
            <p:cNvPr id="265" name=""/>
            <p:cNvSpPr/>
            <p:nvPr/>
          </p:nvSpPr>
          <p:spPr>
            <a:xfrm>
              <a:off x="2209680" y="44956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g      +    32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8320" y="472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1814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3429000"/>
            <a:ext cx="746748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w of Definite Propor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combine in definite proportions by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cent by mass of each element in a compound will be the same regardless of the quantity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w of Multiple 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different compounds are formed from the same elements, different masses of one element combine with the same relative mass of the other element in small whole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724280"/>
            <a:ext cx="358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e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" y="2057400"/>
            <a:ext cx="8610480" cy="3505320"/>
            <a:chOff x="228600" y="2057400"/>
            <a:chExt cx="8610480" cy="3505320"/>
          </a:xfrm>
        </p:grpSpPr>
        <p:sp>
          <p:nvSpPr>
            <p:cNvPr id="101" name=""/>
            <p:cNvSpPr/>
            <p:nvPr/>
          </p:nvSpPr>
          <p:spPr>
            <a:xfrm>
              <a:off x="3809880" y="205740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464832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464832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3880" y="335304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5880" y="335304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x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62920" y="4648320"/>
              <a:ext cx="167616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1480" y="464832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90720" y="4267440"/>
              <a:ext cx="1371600" cy="38088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864" y="0"/>
                  </a:moveTo>
                  <a:lnTo>
                    <a:pt x="86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2320" y="4496040"/>
              <a:ext cx="1371600" cy="152280"/>
            </a:xfrm>
            <a:custGeom>
              <a:avLst/>
              <a:gdLst/>
              <a:ahLst/>
              <a:rect l="l" t="t" r="r" b="b"/>
              <a:pathLst>
                <a:path w="864" h="96">
                  <a:moveTo>
                    <a:pt x="0" y="0"/>
                  </a:moveTo>
                  <a:lnTo>
                    <a:pt x="864" y="0"/>
                  </a:lnTo>
                  <a:lnTo>
                    <a:pt x="86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4267440"/>
              <a:ext cx="990720" cy="38088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624" y="0"/>
                  </a:moveTo>
                  <a:lnTo>
                    <a:pt x="62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4320" y="4496040"/>
              <a:ext cx="1066680" cy="15228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0"/>
                  </a:moveTo>
                  <a:lnTo>
                    <a:pt x="672" y="0"/>
                  </a:lnTo>
                  <a:lnTo>
                    <a:pt x="67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2971800"/>
              <a:ext cx="2286000" cy="38124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1440" y="0"/>
                  </a:moveTo>
                  <a:lnTo>
                    <a:pt x="1440" y="96"/>
                  </a:lnTo>
                  <a:lnTo>
                    <a:pt x="0" y="96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3124440"/>
              <a:ext cx="2286000" cy="228600"/>
            </a:xfrm>
            <a:custGeom>
              <a:avLst/>
              <a:gdLst/>
              <a:ahLst/>
              <a:rect l="l" t="t" r="r" b="b"/>
              <a:pathLst>
                <a:path w="1440" h="144">
                  <a:moveTo>
                    <a:pt x="0" y="0"/>
                  </a:moveTo>
                  <a:lnTo>
                    <a:pt x="1440" y="0"/>
                  </a:lnTo>
                  <a:lnTo>
                    <a:pt x="144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8600" y="1981080"/>
            <a:ext cx="2590920" cy="1219320"/>
            <a:chOff x="228600" y="1981080"/>
            <a:chExt cx="2590920" cy="1219320"/>
          </a:xfrm>
        </p:grpSpPr>
        <p:sp>
          <p:nvSpPr>
            <p:cNvPr id="115" name=""/>
            <p:cNvSpPr/>
            <p:nvPr/>
          </p:nvSpPr>
          <p:spPr>
            <a:xfrm>
              <a:off x="228600" y="19810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ains only one type of matter.  AKA pure substa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3880" y="28195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553080" y="2209680"/>
            <a:ext cx="2362320" cy="1066680"/>
            <a:chOff x="6553080" y="2209680"/>
            <a:chExt cx="2362320" cy="1066680"/>
          </a:xfrm>
        </p:grpSpPr>
        <p:sp>
          <p:nvSpPr>
            <p:cNvPr id="118" name=""/>
            <p:cNvSpPr/>
            <p:nvPr/>
          </p:nvSpPr>
          <p:spPr>
            <a:xfrm>
              <a:off x="6553080" y="220968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ains more than one type of matter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162920" y="281916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00040" y="3505320"/>
            <a:ext cx="2895480" cy="368280"/>
            <a:chOff x="3200040" y="3505320"/>
            <a:chExt cx="2895480" cy="368280"/>
          </a:xfrm>
        </p:grpSpPr>
        <p:sp>
          <p:nvSpPr>
            <p:cNvPr id="121" name=""/>
            <p:cNvSpPr/>
            <p:nvPr/>
          </p:nvSpPr>
          <p:spPr>
            <a:xfrm flipH="1">
              <a:off x="3200040" y="38098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392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ysical Properties of Ma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ff"/>
                </a:solidFill>
                <a:latin typeface="Arial"/>
              </a:rPr>
              <a:t>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atter are those properties that can be observed or measured without changing the composition of the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tensive vs. Intensive Proper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ff"/>
                </a:solidFill>
                <a:latin typeface="Arial"/>
              </a:rPr>
              <a:t>Extensive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pendent on the amount of matter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ff"/>
                </a:solidFill>
                <a:latin typeface="Arial"/>
              </a:rPr>
              <a:t>Intensive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ndependent of the amount of matter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Question 9/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46052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251784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724280" y="1676520"/>
            <a:ext cx="2438640" cy="2095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Featured Pic"/>
          <p:cNvPicPr/>
          <p:nvPr/>
        </p:nvPicPr>
        <p:blipFill>
          <a:blip r:embed="rId5"/>
          <a:stretch/>
        </p:blipFill>
        <p:spPr>
          <a:xfrm>
            <a:off x="2286000" y="1600200"/>
            <a:ext cx="2224080" cy="2189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53080" y="3962520"/>
            <a:ext cx="2210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change is occurring in each photo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tes of Mat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hysical Fo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1600200"/>
          <a:ext cx="8382240" cy="4857840"/>
        </p:xfrm>
        <a:graphic>
          <a:graphicData uri="http://schemas.openxmlformats.org/drawingml/2006/table">
            <a:tbl>
              <a:tblPr/>
              <a:tblGrid>
                <a:gridCol w="1660680"/>
                <a:gridCol w="2266920"/>
                <a:gridCol w="1811160"/>
                <a:gridCol w="2643480"/>
              </a:tblGrid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362320" y="2590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In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038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In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2590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4038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In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19920" y="2286000"/>
            <a:ext cx="2819160" cy="1171080"/>
            <a:chOff x="6019920" y="2286000"/>
            <a:chExt cx="2819160" cy="1171080"/>
          </a:xfrm>
        </p:grpSpPr>
        <p:sp>
          <p:nvSpPr>
            <p:cNvPr id="143" name=""/>
            <p:cNvSpPr/>
            <p:nvPr/>
          </p:nvSpPr>
          <p:spPr>
            <a:xfrm>
              <a:off x="6019920" y="22860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737ff"/>
                  </a:solidFill>
                  <a:latin typeface="Arial"/>
                </a:rPr>
                <a:t>Incompressi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934320" y="2895480"/>
              <a:ext cx="733320" cy="561600"/>
              <a:chOff x="6934320" y="2895480"/>
              <a:chExt cx="733320" cy="561600"/>
            </a:xfrm>
          </p:grpSpPr>
          <p:sp>
            <p:nvSpPr>
              <p:cNvPr id="145" name=""/>
              <p:cNvSpPr/>
              <p:nvPr/>
            </p:nvSpPr>
            <p:spPr>
              <a:xfrm>
                <a:off x="7124400" y="3075840"/>
                <a:ext cx="181080" cy="190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05840" y="3094920"/>
                <a:ext cx="181080" cy="190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91720" y="3257280"/>
                <a:ext cx="18108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63080" y="3267000"/>
                <a:ext cx="181080" cy="190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01280" y="3219120"/>
                <a:ext cx="181080" cy="190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87280" y="3133080"/>
                <a:ext cx="18036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419960" y="2942640"/>
                <a:ext cx="181080" cy="190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29880" y="2914200"/>
                <a:ext cx="1810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48440" y="2895480"/>
                <a:ext cx="181080" cy="190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34320" y="3047760"/>
                <a:ext cx="18108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19920" y="3581280"/>
            <a:ext cx="2819160" cy="1404000"/>
            <a:chOff x="6019920" y="3581280"/>
            <a:chExt cx="2819160" cy="1404000"/>
          </a:xfrm>
        </p:grpSpPr>
        <p:sp>
          <p:nvSpPr>
            <p:cNvPr id="156" name=""/>
            <p:cNvSpPr/>
            <p:nvPr/>
          </p:nvSpPr>
          <p:spPr>
            <a:xfrm>
              <a:off x="6019920" y="358128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37ff"/>
                  </a:solidFill>
                  <a:latin typeface="Arial"/>
                </a:rPr>
                <a:t>Nearly Incompress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070040" y="4345920"/>
              <a:ext cx="733680" cy="639360"/>
              <a:chOff x="7070040" y="4345920"/>
              <a:chExt cx="733680" cy="639360"/>
            </a:xfrm>
          </p:grpSpPr>
          <p:sp>
            <p:nvSpPr>
              <p:cNvPr id="158" name=""/>
              <p:cNvSpPr/>
              <p:nvPr/>
            </p:nvSpPr>
            <p:spPr>
              <a:xfrm rot="20989800">
                <a:off x="7288560" y="4599360"/>
                <a:ext cx="163440" cy="161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989800">
                <a:off x="7452360" y="4586040"/>
                <a:ext cx="163440" cy="162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989800">
                <a:off x="7388280" y="4763160"/>
                <a:ext cx="162720" cy="162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989800">
                <a:off x="7621200" y="4746600"/>
                <a:ext cx="163440" cy="162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989800">
                <a:off x="7221960" y="4809600"/>
                <a:ext cx="162720" cy="162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989800">
                <a:off x="7627680" y="4538160"/>
                <a:ext cx="162720" cy="162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989800">
                <a:off x="7525440" y="4358880"/>
                <a:ext cx="162720" cy="161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989800">
                <a:off x="7315200" y="4404960"/>
                <a:ext cx="163440" cy="162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989800">
                <a:off x="7135560" y="4379400"/>
                <a:ext cx="163440" cy="162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989800">
                <a:off x="7083000" y="4570200"/>
                <a:ext cx="163440" cy="162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6172200" y="5105520"/>
            <a:ext cx="2590920" cy="1295280"/>
            <a:chOff x="6172200" y="5105520"/>
            <a:chExt cx="2590920" cy="1295280"/>
          </a:xfrm>
        </p:grpSpPr>
        <p:sp>
          <p:nvSpPr>
            <p:cNvPr id="169" name=""/>
            <p:cNvSpPr/>
            <p:nvPr/>
          </p:nvSpPr>
          <p:spPr>
            <a:xfrm>
              <a:off x="6172200" y="51055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737ff"/>
                  </a:solidFill>
                  <a:latin typeface="Arial"/>
                </a:rPr>
                <a:t>Compressi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781680" y="5562720"/>
              <a:ext cx="1323720" cy="838080"/>
              <a:chOff x="6781680" y="5562720"/>
              <a:chExt cx="1323720" cy="838080"/>
            </a:xfrm>
          </p:grpSpPr>
          <p:sp>
            <p:nvSpPr>
              <p:cNvPr id="171" name=""/>
              <p:cNvSpPr/>
              <p:nvPr/>
            </p:nvSpPr>
            <p:spPr>
              <a:xfrm>
                <a:off x="6781680" y="5915520"/>
                <a:ext cx="181080" cy="189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53520" y="5838840"/>
                <a:ext cx="181080" cy="190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05840" y="6210720"/>
                <a:ext cx="18108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77760" y="5697000"/>
                <a:ext cx="180360" cy="190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480" y="6001560"/>
                <a:ext cx="181080" cy="190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72760" y="5562720"/>
                <a:ext cx="18036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25040" y="5896440"/>
                <a:ext cx="180360" cy="189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67720" y="6181560"/>
                <a:ext cx="18108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15600" y="5668200"/>
                <a:ext cx="180360" cy="190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677720" y="6115680"/>
                <a:ext cx="18036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of a substance to combine with or change into one or more other substances is called a </a:t>
            </a:r>
            <a:r>
              <a:rPr b="1" lang="en-US" sz="2400" spc="-1" strike="noStrike">
                <a:solidFill>
                  <a:srgbClr val="3737ff"/>
                </a:solidFill>
                <a:latin typeface="Arial"/>
              </a:rPr>
              <a:t>chemic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A chemical property cannot be observed a substance undergoing a chemical change (changing</a:t>
            </a:r>
            <a:r>
              <a:rPr b="1" lang="en-US" sz="2400" spc="-1" strike="noStrike">
                <a:solidFill>
                  <a:srgbClr val="373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into a new sub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nge which alters a substance without changing its com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 9/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quired to separate a mixture into individual substa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ff"/>
                </a:solidFill>
                <a:latin typeface="Arial"/>
              </a:rPr>
              <a:t>A Phys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key difference between a physical change and a chemical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ff"/>
                </a:solidFill>
                <a:latin typeface="Arial"/>
              </a:rPr>
              <a:t>During a physical change the composition of matter stays the same.  The composition of a substance is altered as a result of a chemical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for homework quiz #2 (sections 3.1-3.4) on 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4:09:25Z</dcterms:created>
  <dc:creator>Dawn Pav</dc:creator>
  <dc:description/>
  <dc:language>en-US</dc:language>
  <cp:lastModifiedBy>udsd</cp:lastModifiedBy>
  <dcterms:modified xsi:type="dcterms:W3CDTF">2009-09-21T15:13:12Z</dcterms:modified>
  <cp:revision>10</cp:revision>
  <dc:subject/>
  <dc:title>Pre-class Activity 1</dc:title>
</cp:coreProperties>
</file>